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C172-DC9D-4AE9-AAA7-16EDC64C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F369-5857-44F9-A56A-55C09048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62AB-2BB3-4349-B809-82C0C2AB5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ED7D-8F18-4825-9D14-E367FD0BF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80EA-F1C6-407A-9AAD-ABC0AD29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DBFA-FA15-4886-A162-00D4C43A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892F-F6CF-4B1E-9CE6-7774EB60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AD7E-3234-4234-AD95-FF3FA031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0A1F-D83D-43CB-878E-24C9898B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4C6B-85AE-4601-BBE4-5FA535A6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5D50-9F3B-4A78-A192-0F62ACAA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9E02-2887-465D-A127-F0A65734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9D89-7112-4A55-9586-60352E5431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shrineodreams.files.wordpress.com/2012/03/5point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ilded 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nit 3 Day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shrineodreams.files.wordpress.com/2012/03/5point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http://media-cache-ak0.pinimg.com/736x/1c/c3/6c/1cc36cd4b2f3fe946cf0f0e8f915182a.jpg"/>
          <p:cNvPicPr/>
          <p:nvPr/>
        </p:nvPicPr>
        <p:blipFill>
          <a:blip r:embed="rId2"/>
          <a:stretch/>
        </p:blipFill>
        <p:spPr>
          <a:xfrm>
            <a:off x="2209680" y="380880"/>
            <a:ext cx="476280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shrineodreams.files.wordpress.com/2012/03/5point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3520" y="26366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ospel of Wealth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rew Carneg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hilanthro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lp people help themselve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hools and hospit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handou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http://ts2.mm.bing.net/th?id=H.5019739847393433&amp;w=167&amp;h=188&amp;c=7&amp;rs=1&amp;pid=1.7"/>
          <p:cNvPicPr/>
          <p:nvPr/>
        </p:nvPicPr>
        <p:blipFill>
          <a:blip r:embed="rId2"/>
          <a:stretch/>
        </p:blipFill>
        <p:spPr>
          <a:xfrm>
            <a:off x="5029200" y="609480"/>
            <a:ext cx="32004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shrineodreams.files.wordpress.com/2012/03/5point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orming Soci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486400" y="5638320"/>
            <a:ext cx="3200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ne Add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0.tqn.com/d/womenshistory/1/0/X/r/2/Jane-Addams-2696444x.jpg"/>
          <p:cNvPicPr/>
          <p:nvPr/>
        </p:nvPicPr>
        <p:blipFill>
          <a:blip r:embed="rId2"/>
          <a:stretch/>
        </p:blipFill>
        <p:spPr>
          <a:xfrm>
            <a:off x="3211560" y="4495680"/>
            <a:ext cx="2246400" cy="2362320"/>
          </a:xfrm>
          <a:prstGeom prst="rect">
            <a:avLst/>
          </a:prstGeom>
          <a:ln w="0">
            <a:noFill/>
          </a:ln>
        </p:spPr>
      </p:pic>
      <p:sp>
        <p:nvSpPr>
          <p:cNvPr id="94" name="Rounded Rectangular Callout 4"/>
          <p:cNvSpPr/>
          <p:nvPr/>
        </p:nvSpPr>
        <p:spPr>
          <a:xfrm>
            <a:off x="5867280" y="1295280"/>
            <a:ext cx="2971800" cy="4114800"/>
          </a:xfrm>
          <a:prstGeom prst="wedgeRoundRectCallout">
            <a:avLst>
              <a:gd name="adj1" fmla="val -90064"/>
              <a:gd name="adj2" fmla="val 53055"/>
              <a:gd name="adj3" fmla="val 16667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o! No! We must help others! The government must help it’s peopl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http://ts2.mm.bing.net/th?id=H.5063612991602877&amp;w=113&amp;h=177&amp;c=7&amp;rs=1&amp;pid=1.7"/>
          <p:cNvPicPr/>
          <p:nvPr/>
        </p:nvPicPr>
        <p:blipFill>
          <a:blip r:embed="rId3"/>
          <a:stretch/>
        </p:blipFill>
        <p:spPr>
          <a:xfrm>
            <a:off x="0" y="0"/>
            <a:ext cx="990720" cy="1550880"/>
          </a:xfrm>
          <a:prstGeom prst="rect">
            <a:avLst/>
          </a:prstGeom>
          <a:ln w="0">
            <a:noFill/>
          </a:ln>
        </p:spPr>
      </p:pic>
      <p:sp>
        <p:nvSpPr>
          <p:cNvPr id="96" name="Rectangular Callout 3"/>
          <p:cNvSpPr/>
          <p:nvPr/>
        </p:nvSpPr>
        <p:spPr>
          <a:xfrm>
            <a:off x="380880" y="1752480"/>
            <a:ext cx="3886200" cy="2438640"/>
          </a:xfrm>
          <a:prstGeom prst="wedgeRectCallout">
            <a:avLst>
              <a:gd name="adj1" fmla="val -44939"/>
              <a:gd name="adj2" fmla="val -91541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ttest and strongest in society will survive and prosp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Straight Arrow Connector 9"/>
          <p:cNvCxnSpPr/>
          <p:nvPr/>
        </p:nvCxnSpPr>
        <p:spPr>
          <a:xfrm>
            <a:off x="4114800" y="1142640"/>
            <a:ext cx="1448640" cy="686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shrineodreams.files.wordpress.com/2012/03/5point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Re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ura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be some people can’t help themsel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controllable circumstan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ist writ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ephen Cra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ck Lond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ttp://shrineodreams.files.wordpress.com/2012/03/5point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cob Ri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otograp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h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ow The Other Half L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http://upload.wikimedia.org/wikipedia/commons/6/6d/Jacob_Riis_portrait.jpg"/>
          <p:cNvPicPr/>
          <p:nvPr/>
        </p:nvPicPr>
        <p:blipFill>
          <a:blip r:embed="rId2"/>
          <a:stretch/>
        </p:blipFill>
        <p:spPr>
          <a:xfrm>
            <a:off x="5029200" y="914400"/>
            <a:ext cx="3746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://shrineodreams.files.wordpress.com/2012/03/5point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6" descr="http://3.bp.blogspot.com/_J3962MHOojI/S9QkuewDbsI/AAAAAAAAAH8/1rVUvBj7la0/s1600/5780pb13f8cp72g%5B1%5D.jpg"/>
          <p:cNvPicPr/>
          <p:nvPr/>
        </p:nvPicPr>
        <p:blipFill>
          <a:blip r:embed="rId2"/>
          <a:stretch/>
        </p:blipFill>
        <p:spPr>
          <a:xfrm>
            <a:off x="1143000" y="609480"/>
            <a:ext cx="68515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http://shrineodreams.files.wordpress.com/2012/03/5point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ttp://www.nysun.com/pics/7467.jpg"/>
          <p:cNvPicPr/>
          <p:nvPr/>
        </p:nvPicPr>
        <p:blipFill>
          <a:blip r:embed="rId2"/>
          <a:stretch/>
        </p:blipFill>
        <p:spPr>
          <a:xfrm>
            <a:off x="1143000" y="685800"/>
            <a:ext cx="70484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ttp://shrineodreams.files.wordpress.com/2012/03/5point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http://shrineodreams.files.wordpress.com/2012/03/5points.jpg"/>
          <p:cNvPicPr/>
          <p:nvPr/>
        </p:nvPicPr>
        <p:blipFill>
          <a:blip r:embed="rId2"/>
          <a:stretch/>
        </p:blipFill>
        <p:spPr>
          <a:xfrm>
            <a:off x="45720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http://shrineodreams.files.wordpress.com/2012/03/5point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http://4.bp.blogspot.com/-HYCcYectshE/Trsd6drBYVI/AAAAAAAACLE/9uD_Zhli3FA/s1600/riis-1.thumbnail.jpg"/>
          <p:cNvPicPr/>
          <p:nvPr/>
        </p:nvPicPr>
        <p:blipFill>
          <a:blip r:embed="rId2"/>
          <a:stretch/>
        </p:blipFill>
        <p:spPr>
          <a:xfrm>
            <a:off x="2133720" y="762120"/>
            <a:ext cx="5010120" cy="55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http://shrineodreams.files.wordpress.com/2012/03/5point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Gospel M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blical 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ust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M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lvation Ar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shrineodreams.files.wordpress.com/2012/03/5point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lded Age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k Twain &amp; Charles War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lded” = covering something cheap with g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.S. at the time = Wealth + Corruption + Pove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U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http://maricopabar.files.wordpress.com/2011/04/mark_twain7.jpg?w=800"/>
          <p:cNvPicPr/>
          <p:nvPr/>
        </p:nvPicPr>
        <p:blipFill>
          <a:blip r:embed="rId2"/>
          <a:stretch/>
        </p:blipFill>
        <p:spPr>
          <a:xfrm>
            <a:off x="685800" y="473040"/>
            <a:ext cx="2209680" cy="3184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http://upload.wikimedia.org/wikipedia/commons/1/18/Charles_Dudley_Warner%2C_bw_photo_portrait%2C_c1897.jpg"/>
          <p:cNvPicPr/>
          <p:nvPr/>
        </p:nvPicPr>
        <p:blipFill>
          <a:blip r:embed="rId3"/>
          <a:stretch/>
        </p:blipFill>
        <p:spPr>
          <a:xfrm>
            <a:off x="6400800" y="461880"/>
            <a:ext cx="217332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://shrineodreams.files.wordpress.com/2012/03/5point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ttlement Ho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ving quar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ty cen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glish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indergart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cal 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t. by educated, wealthy wo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http://0.tqn.com/d/womenshistory/1/0/X/r/2/Jane-Addams-2696444x.jpg"/>
          <p:cNvPicPr/>
          <p:nvPr/>
        </p:nvPicPr>
        <p:blipFill>
          <a:blip r:embed="rId2"/>
          <a:stretch/>
        </p:blipFill>
        <p:spPr>
          <a:xfrm>
            <a:off x="6316560" y="3886200"/>
            <a:ext cx="28274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ttp://shrineodreams.files.wordpress.com/2012/03/5point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http://www.uic.edu/depts/uichistory/images/hhpostcard.jpg"/>
          <p:cNvPicPr/>
          <p:nvPr/>
        </p:nvPicPr>
        <p:blipFill>
          <a:blip r:embed="rId2"/>
          <a:stretch/>
        </p:blipFill>
        <p:spPr>
          <a:xfrm>
            <a:off x="990720" y="1295280"/>
            <a:ext cx="72388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ttp://shrineodreams.files.wordpress.com/2012/03/5point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blic Sch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mmar sch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ary sch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cational sch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americanization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eaching students to acquire traits of the American cul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http://winsomegriffin.com/Te_Puna/Tepunaschool1900.jpg"/>
          <p:cNvPicPr/>
          <p:nvPr/>
        </p:nvPicPr>
        <p:blipFill>
          <a:blip r:embed="rId2"/>
          <a:stretch/>
        </p:blipFill>
        <p:spPr>
          <a:xfrm>
            <a:off x="3886200" y="1600200"/>
            <a:ext cx="5083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http://shrineodreams.files.wordpress.com/2012/03/5point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 for p.122-12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ow do you think Horatio Alger’s books helped to fuel the “American Dream”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as Carnegie a Social Darwinist? Use his quote on p.123 to support your answ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hat was making society worse, according to Henry George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ow would Dwight L. Moody argue with: Social Darwinists? Social Gospel Movement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reate a conversation between Herbert Spencer and Jane Addams over the topic “What to do with the homeless and the poor”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http://shrineodreams.files.wordpress.com/2012/03/5point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Venn Diagram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shrineodreams.files.wordpress.com/2012/03/5point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cache1.bdcdn.net/assets/images/book/large/9780/1404/9780140439205.jpg"/>
          <p:cNvPicPr/>
          <p:nvPr/>
        </p:nvPicPr>
        <p:blipFill>
          <a:blip r:embed="rId2"/>
          <a:stretch/>
        </p:blipFill>
        <p:spPr>
          <a:xfrm>
            <a:off x="-533520" y="1295280"/>
            <a:ext cx="4203720" cy="451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i43.tower.com/images/mm113447309/gilded-age-tale-today-mark-twain-paperback-cover-art.jpg"/>
          <p:cNvPicPr/>
          <p:nvPr/>
        </p:nvPicPr>
        <p:blipFill>
          <a:blip r:embed="rId3"/>
          <a:stretch/>
        </p:blipFill>
        <p:spPr>
          <a:xfrm>
            <a:off x="6324480" y="1295280"/>
            <a:ext cx="2819520" cy="4229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img0101.popscreencdn.com/156495500_the-gilded-age-ebook-a-tale-of-today-by-mark-twain-et-al.jpg"/>
          <p:cNvPicPr/>
          <p:nvPr/>
        </p:nvPicPr>
        <p:blipFill>
          <a:blip r:embed="rId4"/>
          <a:stretch/>
        </p:blipFill>
        <p:spPr>
          <a:xfrm>
            <a:off x="3505320" y="380988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http://2.bp.blogspot.com/_Y7NII0y3laY/TCe2USmfEFI/AAAAAAAABYA/vjDhXpxTBV4/s400/Gilded+Age.jpg"/>
          <p:cNvPicPr/>
          <p:nvPr/>
        </p:nvPicPr>
        <p:blipFill>
          <a:blip r:embed="rId5"/>
          <a:stretch/>
        </p:blipFill>
        <p:spPr>
          <a:xfrm>
            <a:off x="3276720" y="0"/>
            <a:ext cx="27716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shrineodreams.files.wordpress.com/2012/03/5point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ividu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images6.fanpop.com/image/photos/32500000/greg-diary-of-a-wimpy-kid-32547710-249-488.jpg"/>
          <p:cNvPicPr/>
          <p:nvPr/>
        </p:nvPicPr>
        <p:blipFill>
          <a:blip r:embed="rId2"/>
          <a:stretch/>
        </p:blipFill>
        <p:spPr>
          <a:xfrm>
            <a:off x="6477120" y="1523880"/>
            <a:ext cx="2333520" cy="457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4.bp.blogspot.com/_LneNHYxrvIw/S8b5deyitFI/AAAAAAAADOU/n7_YXzpGVlM/s1600/greg_heffley.jpg"/>
          <p:cNvPicPr/>
          <p:nvPr/>
        </p:nvPicPr>
        <p:blipFill>
          <a:blip r:embed="rId3"/>
          <a:stretch/>
        </p:blipFill>
        <p:spPr>
          <a:xfrm>
            <a:off x="0" y="1701720"/>
            <a:ext cx="2362320" cy="4165560"/>
          </a:xfrm>
          <a:prstGeom prst="rect">
            <a:avLst/>
          </a:prstGeom>
          <a:ln w="0">
            <a:noFill/>
          </a:ln>
        </p:spPr>
      </p:pic>
      <p:sp>
        <p:nvSpPr>
          <p:cNvPr id="61" name="Rounded Rectangular Callout 5"/>
          <p:cNvSpPr/>
          <p:nvPr/>
        </p:nvSpPr>
        <p:spPr>
          <a:xfrm>
            <a:off x="2514600" y="1828800"/>
            <a:ext cx="3886200" cy="4724280"/>
          </a:xfrm>
          <a:prstGeom prst="wedgeRoundRectCallout">
            <a:avLst>
              <a:gd name="adj1" fmla="val -28481"/>
              <a:gd name="adj2" fmla="val -64759"/>
              <a:gd name="adj3" fmla="val 16667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ith  hard work and determination, NOTHING can hold you back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shrineodreams.files.wordpress.com/2012/03/5point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Darwi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76520"/>
            <a:ext cx="6934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erbert Spenc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ural se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vival of the fittest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ed to human society and com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ustified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laissez-faire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capitalism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ts2.mm.bing.net/th?id=H.5063612991602877&amp;w=113&amp;h=177&amp;c=7&amp;rs=1&amp;pid=1.7"/>
          <p:cNvPicPr/>
          <p:nvPr/>
        </p:nvPicPr>
        <p:blipFill>
          <a:blip r:embed="rId2"/>
          <a:stretch/>
        </p:blipFill>
        <p:spPr>
          <a:xfrm>
            <a:off x="6172200" y="1219320"/>
            <a:ext cx="2411280" cy="37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shrineodreams.files.wordpress.com/2012/03/5point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http://www.everseradio.com/wp-content/uploads/2013/04/gilded-age.jpg"/>
          <p:cNvPicPr/>
          <p:nvPr/>
        </p:nvPicPr>
        <p:blipFill>
          <a:blip r:embed="rId2"/>
          <a:stretch/>
        </p:blipFill>
        <p:spPr>
          <a:xfrm>
            <a:off x="533520" y="1143000"/>
            <a:ext cx="808812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http://shrineodreams.files.wordpress.com/2012/03/5point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s://lh4.googleusercontent.com/-UDuN8JkTt24/TXpsDJ65Z_I/AAAAAAAAAcQ/1Mp9l6fcL6g/s1600/gilded+age.jpg"/>
          <p:cNvPicPr/>
          <p:nvPr/>
        </p:nvPicPr>
        <p:blipFill>
          <a:blip r:embed="rId2"/>
          <a:stretch/>
        </p:blipFill>
        <p:spPr>
          <a:xfrm>
            <a:off x="762120" y="457200"/>
            <a:ext cx="7439040" cy="60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shrineodreams.files.wordpress.com/2012/03/5point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http://www.costumes.org/history/victorian/boehn/Photograph1880.JPG"/>
          <p:cNvPicPr/>
          <p:nvPr/>
        </p:nvPicPr>
        <p:blipFill>
          <a:blip r:embed="rId2"/>
          <a:stretch/>
        </p:blipFill>
        <p:spPr>
          <a:xfrm>
            <a:off x="1981080" y="685800"/>
            <a:ext cx="5181840" cy="58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shrineodreams.files.wordpress.com/2012/03/5point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ts3.mm.bing.net/th?id=H.4513182905469006&amp;w=268&amp;h=188&amp;c=7&amp;rs=1&amp;pid=1.7"/>
          <p:cNvPicPr/>
          <p:nvPr/>
        </p:nvPicPr>
        <p:blipFill>
          <a:blip r:embed="rId2"/>
          <a:stretch/>
        </p:blipFill>
        <p:spPr>
          <a:xfrm>
            <a:off x="990720" y="990720"/>
            <a:ext cx="72770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11:08:04Z</dcterms:created>
  <dc:creator>loftonm</dc:creator>
  <dc:description/>
  <dc:language>en-US</dc:language>
  <cp:lastModifiedBy>Sacerdote, Kevin R.</cp:lastModifiedBy>
  <dcterms:modified xsi:type="dcterms:W3CDTF">2016-10-18T12:07:49Z</dcterms:modified>
  <cp:revision>173</cp:revision>
  <dc:subject/>
  <dc:title>The Gilded Age</dc:title>
</cp:coreProperties>
</file>